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DA92-C491-426B-982D-B49610151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575D-7CE7-4AFF-8644-DE80A083B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348C-5BFB-46A0-8456-CC9FDB05E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6306-DE56-4342-80BD-2E1A0604E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C6D03-99AF-440D-987B-C8CD7BC7B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34D57-4AB4-4D06-89B6-1EED64208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AF95D-9D0F-4520-B41B-A5DDEC336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25A70-D257-402C-AA51-81471E20B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E327A-47CB-41AA-87A1-D60679083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AE29C-4B7F-4A8C-871E-33B88EAE8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DF73A-68D7-4932-B97C-C900DD771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1863-8327-4E40-AE36-7726BF828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9E089-D2B3-4278-9908-BFBD05360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68EC1-2118-4E75-9D79-EA6AA52E2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F4133-2132-4F31-90C7-E8830DD92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1D83E-F66C-48FD-8BB5-CC0C0D687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6A593-A93C-4369-B3D1-1AE920066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8942-A16B-4DCD-9081-99C4E7B99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9444-920F-44C5-8294-A48A66C8E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B140-A904-4CB0-B15E-5331646CA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BC59-A03A-413A-B940-A4A90ACDB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666A-1B19-4618-AA17-1B0D7C78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3DC5-A300-47D5-919F-00AE25A1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7105-5579-4FB8-937E-2C893AFB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68E80-39DE-4C8A-864E-170CE6A417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7954F-0595-4D61-9112-59ABBF2CF2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ife as a slave working in the hous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: Paige Sutt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How many hours did slaves work in the house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were on call 24/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barley get a brea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get call about the same hours everyd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How many times did the slaves cook a day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have to cook whenever they say to coo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have to cook certain dinners for th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Did they have to take care of the kids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say that they are to old to take care of there kids so they need some teen slaves to take care of the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think they don’t have to take care of there kids when they get slav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ere I got my inf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ttp://answers.yahoo.com/search/search_result;_ylt=Aoky8Heqt4QmzDU21HXlXrojzKI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8:41:47Z</dcterms:created>
  <dc:creator>teacher</dc:creator>
  <dc:description/>
  <dc:language>en-US</dc:language>
  <cp:lastModifiedBy>teacher</cp:lastModifiedBy>
  <dcterms:modified xsi:type="dcterms:W3CDTF">2010-01-12T18:25:38Z</dcterms:modified>
  <cp:revision>3</cp:revision>
  <dc:subject/>
  <dc:title>Life as a slave working in the house</dc:title>
</cp:coreProperties>
</file>